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DAC2A-389E-4B40-8D1B-F58E453A93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57C4E-2D5C-441C-8A63-E3CF1D08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E6525-F191-44F5-AB35-81443A99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9209F-3711-485B-9480-4D5865C712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82B6-821D-48BC-A58D-992B18D0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943CD-227B-4F85-80B6-0F54C1B9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528AE-0958-4316-A47B-240C2EC7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BF5A2-75A6-4B9C-A40A-BD0CA1D9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EE89-2939-402F-8E68-3589972F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759E6-BFFD-4386-9912-15FC20F3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1306-A25A-46B7-84CE-C7EE40A9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93FB5-599F-4E6D-8103-6DE37F3C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E2C4-FCE3-4A99-8A06-6F12D1C27D7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397B-02B7-4437-9124-D5067DB8B9C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九节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意识障碍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135A-6646-48CB-9D63-C7C2B554F31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昏迷：是最严重的意识障碍，按其程度不同又可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轻度昏迷：大部分意识丧失，无自主运动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声、光刺激无反应，对疼痛刺激尚可出现痛苦表情或肢体退缩等防御反应吞咽反射、角膜反射、瞳孔对光反射、眼球运动等可存在，血压、脉搏、呼吸无明显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中度昏迷：对周围事物及各种刺激均无反应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剧烈刺激可有防御反应。无眼球转动，角膜反射减弱，瞳孔对光反射迟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深度昏迷：意识完全丧失，全身肌肉松弛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任何刺激均无反应，深、浅反射均消失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血压、脉搏、呼吸常有改变，二便失禁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0CD4-5A93-4EF0-9517-12EC4D1A29B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意识障碍发生的时间，发病前有无诱因、病程长短、意识障碍程度及其进展等，根据患者对刺激的反应，回答问题的准确性、肢体活动情况、痛觉试验、神经反射等可以判断有无意识障碍及程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有无低血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07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0847-8D37-40C3-B877-B70F2B304C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意识障碍相关的疾病史；有无癫痫等病史；有无类似发作史有无毒物或药物接触史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营养状况、意识状态、有无压疮等以及对患者生活质量的影响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如昏迷患者易并发肺部感染或尿路感染、口腔炎、结膜炎以及肢体肌肉挛缩畸形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4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EABA-D402-44C4-BD53-9E58782C558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2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急性意识障碍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2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丧失所致排尿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/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排便功能障碍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2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2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清理呼吸道无效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口腔黏膜受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3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脑出血有关；与肺性脑病、肝性脑病有关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>
            <a:off x="4426560" y="529992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丧失自理能力及唾液分泌减少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1929-B317-480C-8371-60DC482DB20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44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营养失调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7" name="Group 11"/>
          <p:cNvGrpSpPr/>
          <p:nvPr/>
        </p:nvGrpSpPr>
        <p:grpSpPr>
          <a:xfrm>
            <a:off x="900000" y="4005360"/>
            <a:ext cx="7230960" cy="791640"/>
            <a:chOff x="900000" y="4005360"/>
            <a:chExt cx="7230960" cy="791640"/>
          </a:xfrm>
        </p:grpSpPr>
        <p:sp>
          <p:nvSpPr>
            <p:cNvPr id="248" name="AutoShape 12"/>
            <p:cNvSpPr/>
            <p:nvPr/>
          </p:nvSpPr>
          <p:spPr>
            <a:xfrm>
              <a:off x="3113640" y="4005360"/>
              <a:ext cx="5017320" cy="72324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自主运动消失有关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排便、排尿失禁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13"/>
            <p:cNvSpPr/>
            <p:nvPr/>
          </p:nvSpPr>
          <p:spPr>
            <a:xfrm>
              <a:off x="900000" y="4186080"/>
              <a:ext cx="2327400" cy="6109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有皮肤完整性受损的危险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51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52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有感染的危险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有受伤害的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7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58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于机体需要量  与意识障碍不能正常进食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；与侵入性导尿装置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4100760" y="52999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躁动不安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1D2C-99CD-478E-90B2-E6A6EAF72F1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2BC4-C162-4D2B-9B81-482C87916E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C97B-FE92-440C-B6D3-0F0A613C80D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意识障碍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意识障碍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BDAD-79E2-4356-8642-4ECB6C6CD3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7C53-0BD3-4521-A865-7088E42C1FE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0377-E51F-4350-9D28-3CA8ECB905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意识障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isturbance of consciousnes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人对周围环境及自身状态的识别和察觉能力出现障碍，对外界环境刺激缺乏反应的一种精神状态。意识障碍多由于高级神经中枢功能活动受损而引起，可表现为嗜睡、意识模糊、昏睡和谵妄，严重的意识障碍为昏迷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04A7-3291-44B3-84C9-830684CFF7C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脑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02B0-D5E9-4221-A516-A7422299F0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8"/>
          <p:cNvSpPr/>
          <p:nvPr/>
        </p:nvSpPr>
        <p:spPr>
          <a:xfrm>
            <a:off x="1287360" y="2146320"/>
            <a:ext cx="6099120" cy="43578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如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血管疾病：如脑出血、高血压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位性病变：如脑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脑震荡、脑挫伤、颅骨骨折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癫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B146-E107-4800-8E80-492A4228E1B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42848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E350-B851-4BC0-876F-707DF2C0EB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0"/>
          <p:cNvSpPr/>
          <p:nvPr/>
        </p:nvSpPr>
        <p:spPr>
          <a:xfrm>
            <a:off x="1258920" y="1071720"/>
            <a:ext cx="7599240" cy="5786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感染：如败血症、中毒性肺炎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血管疾病：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ams-Stoke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分泌与代谢性疾病：如肝性脑病、尿毒症等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：安眠药、有机磷、乙醇、一氧化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物理性及缺氧性损害：如触电、溺水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、电解质平衡紊乱：如低钠血症、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C2E8-6ED8-48D9-B44E-1404D21BB03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0DC4-F012-4C9C-93BA-6DD632851E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7800" y="163980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由意识内容和其“开关”系统组成。意识“开关”系统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激活大脑皮质并使之维持一定水平的兴奋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使机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处于觉醒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在此基础上产生意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脑皮质和皮质下网状结构功能完整时，意识活动是清醒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59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3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759800" y="5464080"/>
            <a:ext cx="874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7D84-631E-4C75-8BA6-A390D234F0F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C270-866C-42C6-8C67-73349CC281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7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8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2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55640" y="5229360"/>
            <a:ext cx="1000080" cy="1152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2484360" y="2637000"/>
            <a:ext cx="2087640" cy="79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缺血、缺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2411280" y="3716280"/>
            <a:ext cx="230364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供给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2484360" y="4941720"/>
            <a:ext cx="223200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代谢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1476360" y="3068280"/>
            <a:ext cx="43164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859280" y="2852640"/>
            <a:ext cx="73080" cy="2808360"/>
          </a:xfrm>
          <a:custGeom>
            <a:avLst/>
            <a:gdLst>
              <a:gd name="textAreaLeft" fmla="*/ 0 w 73080"/>
              <a:gd name="textAreaRight" fmla="*/ 26280 w 7308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9"/>
          <p:cNvSpPr/>
          <p:nvPr/>
        </p:nvSpPr>
        <p:spPr>
          <a:xfrm>
            <a:off x="507672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5580000" y="2421000"/>
            <a:ext cx="792360" cy="36734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6516720" y="4221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8388360" y="2637000"/>
            <a:ext cx="576360" cy="2808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24"/>
          <p:cNvSpPr/>
          <p:nvPr/>
        </p:nvSpPr>
        <p:spPr>
          <a:xfrm>
            <a:off x="539640" y="3141720"/>
            <a:ext cx="720720" cy="1800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1547640" y="4076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547640" y="4941720"/>
            <a:ext cx="50508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6948360" y="1052640"/>
            <a:ext cx="863640" cy="561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害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2"/>
          <p:cNvSpPr/>
          <p:nvPr/>
        </p:nvSpPr>
        <p:spPr>
          <a:xfrm>
            <a:off x="788508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4EF2-4B60-4AAE-875A-8335AF3B6BA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嗜睡：患者处于一种持续性的病理性睡眠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可被轻刺激唤醒，并能正确回答问题和做出各种反应，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但反应迟钝，当刺激去除后很快又入睡嗜睡是最轻的一种意识障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意识模糊：是较嗜睡为深的一种意识障碍。患者意识水平轻度降低，能保持简单的精神活动，但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对时间、地点、人物等定向能力发生障碍，思维和语言不连贯，可有错觉、幻觉、躁动不安、精神错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昏睡：是较严重的意识障碍。患者处于沉睡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难于唤醒，虽在强烈刺激下（如大声呼喊其姓名、摇动其身体、压迫眶上神经等），可被唤醒，但很快又入睡，醒时答话含糊或答非所问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谵妄：是一种以中枢神经系统兴奋性增高为主的急性脑功能失调。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表现为意识模糊，感觉错乱（幻觉、错觉等），定向力丧失、躁动不安、言语杂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等。主要见于急性感染高热期，中枢神经系统疾病，肝性脑病、急性酒精中毒、某些药物中毒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1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9:40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